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CB6F3B-8204-489E-BE3D-5003C980D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D6BBCE-25BF-4905-B172-1FB85D47A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B363A0-DC9B-40B8-8B72-B046DF007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289E68-77D6-4BF8-BD9B-9AB2DBE42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5CC68-995D-4E61-B3A9-2D08AF8E2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16046-3646-4C25-B71E-4BB249C1D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652CD-DA47-4BE0-86C8-60D7B24F5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F635B-4DF8-4D0E-B647-F992993F6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F7C20-575E-4C23-814C-DEB042558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D6AEA-2D84-4708-B0CA-987304087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EF1D5-0710-4262-BF2C-DB6278163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5563B7-CF1F-442D-A902-D585565BD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B37E3-B06A-4D6D-8D48-E041B4FF6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924A3-65AD-46EF-AAC5-992822599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57CF8-B04D-46AC-9162-AC0976D32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70E4B-1976-461A-A8FB-8C1D4BA3D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1A773-1439-4981-B3F3-6449236EF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A48339-81F4-42FF-8760-1A7D36560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9060B6-D318-47BC-B8E7-C1DB2EF3E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D3AF0E-C1D8-4061-8684-A0D0A9B52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8C49DF-7223-4ED5-9C72-E7A7304AB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83AAE8-328E-4851-827B-3E5161F1F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787292-D19A-4B78-9167-1C83C74D5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980313-4E91-49BA-862A-A135D4861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21439-B6EE-4A80-902B-83BBA127ED09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3366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33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6699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33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33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66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33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66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33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66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66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33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6699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33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33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829B4-485A-4077-BA20-8EA89B9D087B}" type="slidenum">
              <a:rPr b="0" lang="ru-RU" sz="1200" spc="-1" strike="noStrike">
                <a:solidFill>
                  <a:srgbClr val="0033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828800" y="1905120"/>
            <a:ext cx="73152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НОРМАТИВНЫЕ ОСНОВАНИЯ 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ОРГАНИЗАЦИИ И ПРОВЕДЕНИЯ ДЕМОНСТРАЦИОННОГО ЭКЗАМЕНА 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КАК ОДНОЙ ИЗ ФОРМ ГОСУДАРСТВЕННОЙ ИТОГОВОЙ АТТЕСТАЦИИ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7080"/>
            <a:ext cx="601992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Некрасова Юлия Александровна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Arial"/>
              </a:rPr>
              <a:t>заместитель директора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Arial"/>
              </a:rPr>
              <a:t>Каменск-Уральского агропромышленного 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Arial"/>
              </a:rPr>
              <a:t>техникума по научно-методической работе,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Arial"/>
              </a:rPr>
              <a:t>руководитель РЦ РПО СО агропромышленного и лесотехнического профиля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2590920" y="6477120"/>
            <a:ext cx="38098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00"/>
                </a:solidFill>
                <a:latin typeface="Arial"/>
              </a:rPr>
              <a:t>              </a:t>
            </a:r>
            <a:r>
              <a:rPr b="0" lang="ru-RU" sz="1400" spc="-1" strike="noStrike">
                <a:solidFill>
                  <a:srgbClr val="003300"/>
                </a:solidFill>
                <a:latin typeface="Arial"/>
              </a:rPr>
              <a:t>г. Каменск-Уральский, 2018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Times New Roman"/>
              </a:rPr>
              <a:t>ПЕРЕЧЕНЬ ПОРУЧЕНИЙ ПРЕЗИДЕНТА РФ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86108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Aft>
                <a:spcPts val="601"/>
              </a:spcAft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ункт 1б Перечня поручений по итогам рабочей поездки в Свердловскую область, состоявшейся 6 марта 2018 года (утв. Президентом РФ от 6 апреля 2018 г. N Пр-580): 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35880" indent="0" algn="just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35880" indent="0" algn="just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«обеспечить увеличение до 50 процентов доли организаций, которые реализуют образовательные программы среднего профессионального образования и в которых демонстрационный экзамен по стандартам «Ворлдскиллс» является одной из форм государственной итоговой аттестации»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1920" y="525240"/>
            <a:ext cx="8915400" cy="84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Times New Roman"/>
              </a:rPr>
              <a:t>КОРРЕКТИРОВКА ЛОКАЛЬНЫХ НОРМАТИВНЫХ АКТОВ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68120" y="1747800"/>
            <a:ext cx="868680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Aft>
                <a:spcPts val="601"/>
              </a:spcAft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рядок проведения государственной итоговой аттестации по образовательным программам среднего профессионального образования в ПОО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177840" y="3581280"/>
            <a:ext cx="86868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spcAft>
                <a:spcPts val="601"/>
              </a:spcAft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грамма проведения государственной итоговой аттестации по образовательной программе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151920" y="991800"/>
            <a:ext cx="853452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рядок проведения государственной итоговой аттестации по образовательным программам среднего профессионального образован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0852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08520" indent="0" algn="just">
              <a:lnSpc>
                <a:spcPct val="9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утвержденный приказом Министерства образования и науки РФ от 16 августа 2013 г. N 968, с изменениями, внесенными приказом Министерства образования и науки РФ от 31 января 2014 г. N 74 и приказом Министерства образования и науки РФ от 17 ноября 2017 г. N 1138.</a:t>
            </a:r>
            <a:r>
              <a:rPr b="1" i="1" lang="ru-RU" sz="2400" spc="-1" strike="noStrike">
                <a:solidFill>
                  <a:srgbClr val="0033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3300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title"/>
          </p:nvPr>
        </p:nvSpPr>
        <p:spPr>
          <a:xfrm>
            <a:off x="271440" y="372600"/>
            <a:ext cx="8686800" cy="69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Times New Roman"/>
              </a:rPr>
              <a:t>ППКРС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16" name="Рисунок 1" descr=""/>
          <p:cNvPicPr/>
          <p:nvPr/>
        </p:nvPicPr>
        <p:blipFill>
          <a:blip r:embed="rId1"/>
          <a:stretch/>
        </p:blipFill>
        <p:spPr>
          <a:xfrm>
            <a:off x="3114720" y="4095720"/>
            <a:ext cx="1305000" cy="60336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3"/>
          <p:cNvSpPr/>
          <p:nvPr/>
        </p:nvSpPr>
        <p:spPr>
          <a:xfrm>
            <a:off x="152280" y="4724280"/>
            <a:ext cx="8805960" cy="18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соответствии с п.12 выпускники по рабочим профессиям выполняют «выпускную практическую квалификационную работу и письменную экзаменационную работу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ибо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демонстрационный экзамен»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151920" y="991800"/>
            <a:ext cx="8534520" cy="159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едеральный государственный образовательный стандарт среднего профессионального образования по профессии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title"/>
          </p:nvPr>
        </p:nvSpPr>
        <p:spPr>
          <a:xfrm>
            <a:off x="271440" y="372600"/>
            <a:ext cx="8686800" cy="69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Times New Roman"/>
              </a:rPr>
              <a:t>ППКРС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20" name="Рисунок 1" descr=""/>
          <p:cNvPicPr/>
          <p:nvPr/>
        </p:nvPicPr>
        <p:blipFill>
          <a:blip r:embed="rId1"/>
          <a:stretch/>
        </p:blipFill>
        <p:spPr>
          <a:xfrm>
            <a:off x="3352680" y="2606760"/>
            <a:ext cx="1305000" cy="603000"/>
          </a:xfrm>
          <a:prstGeom prst="rect">
            <a:avLst/>
          </a:prstGeom>
          <a:ln w="0">
            <a:noFill/>
          </a:ln>
        </p:spPr>
      </p:pic>
      <p:sp>
        <p:nvSpPr>
          <p:cNvPr id="121" name="TextBox 3"/>
          <p:cNvSpPr/>
          <p:nvPr/>
        </p:nvSpPr>
        <p:spPr>
          <a:xfrm>
            <a:off x="533520" y="3429000"/>
            <a:ext cx="8381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соответствии с п.8.6  «Государственная итоговая аттестация включает защиту выпускной квалификационной работы (выпускная практическая квалификационная работа и письменная экзаменационная работа)» 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167760" y="836640"/>
            <a:ext cx="8534520" cy="129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рядок проведения государственной итоговой аттестации по образовательным программам среднего профессионального образован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title"/>
          </p:nvPr>
        </p:nvSpPr>
        <p:spPr>
          <a:xfrm>
            <a:off x="276120" y="213840"/>
            <a:ext cx="8686800" cy="69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Times New Roman"/>
              </a:rPr>
              <a:t>ППССЗ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24" name="Рисунок 1" descr=""/>
          <p:cNvPicPr/>
          <p:nvPr/>
        </p:nvPicPr>
        <p:blipFill>
          <a:blip r:embed="rId1"/>
          <a:stretch/>
        </p:blipFill>
        <p:spPr>
          <a:xfrm>
            <a:off x="3581280" y="1981080"/>
            <a:ext cx="1305000" cy="60336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3"/>
          <p:cNvSpPr/>
          <p:nvPr/>
        </p:nvSpPr>
        <p:spPr>
          <a:xfrm>
            <a:off x="-6480" y="2752560"/>
            <a:ext cx="8969400" cy="33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соответствии с п.12 «В зависимости от осваиваемой образовательной программы СПО и в соответствии с ФГОС СПО выпускная квалификационная работа выполняется в следующих видах: 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ипломная работа (дипломный проект)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 (или)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монстрационный экзамен - для выпускников, осваивающих программы подготовки специалистов среднего звена.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167760" y="836640"/>
            <a:ext cx="8534520" cy="129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едеральный государственный образовательный стандарт среднего профессионального образования по специальности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title"/>
          </p:nvPr>
        </p:nvSpPr>
        <p:spPr>
          <a:xfrm>
            <a:off x="276120" y="213840"/>
            <a:ext cx="8686800" cy="69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Times New Roman"/>
              </a:rPr>
              <a:t>ППССЗ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28" name="Рисунок 1" descr=""/>
          <p:cNvPicPr/>
          <p:nvPr/>
        </p:nvPicPr>
        <p:blipFill>
          <a:blip r:embed="rId1"/>
          <a:stretch/>
        </p:blipFill>
        <p:spPr>
          <a:xfrm>
            <a:off x="3581280" y="1981080"/>
            <a:ext cx="1305000" cy="60336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3"/>
          <p:cNvSpPr/>
          <p:nvPr/>
        </p:nvSpPr>
        <p:spPr>
          <a:xfrm>
            <a:off x="-6480" y="2752560"/>
            <a:ext cx="8969400" cy="364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соответствии с п. 8.6. «Государственная итоговая аттестация включает подготовку и защиту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ыпускной квалификационной работы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дипломная работа, дипломный проект). Обязательное требование - соответствие тематики выпускной квалификационной работы содержанию одного или нескольких профессиональных модулей.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осударственный экзамен вводится по усмотрению образовательной организаци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»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Times New Roman"/>
              </a:rPr>
              <a:t>ВЫВОД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1" name="Rectangle 3"/>
          <p:cNvSpPr/>
          <p:nvPr/>
        </p:nvSpPr>
        <p:spPr>
          <a:xfrm>
            <a:off x="343080" y="1371600"/>
            <a:ext cx="868680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1640" algn="just">
              <a:spcAft>
                <a:spcPts val="1199"/>
              </a:spcAft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ППКРС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1640" algn="just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ПК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в форме ДЭ и в форме практического задания, разработанного внутри ПОО) 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1640" algn="just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ЭР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2" name="Rectangle 3"/>
          <p:cNvSpPr/>
          <p:nvPr/>
        </p:nvSpPr>
        <p:spPr>
          <a:xfrm>
            <a:off x="352440" y="3886200"/>
            <a:ext cx="845820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1640" algn="just">
              <a:spcAft>
                <a:spcPts val="1199"/>
              </a:spcAft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ППССЗ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1640" algn="just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К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дипломная работа, дипломный проект) 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1640" algn="just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осударственный экзамен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в форме ДЭ и в форме любого практического задания, разработанного внутри ПОО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ользователь Windows</cp:lastModifiedBy>
  <dcterms:modified xsi:type="dcterms:W3CDTF">2018-12-02T11:13:40Z</dcterms:modified>
  <cp:revision>20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